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824-2B6C-4481-BB69-CCD66441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3B7-5D93-42F2-A007-A64FC2CD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239-7879-4CBA-9CB4-C3B169CB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8CA-509E-472B-B73B-89CFA307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8C32-A4D0-49ED-A136-8E44C8D3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A6FB-FEDA-4BA1-8197-BD20091B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7FBF-4076-4FE1-82EB-04510522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552A-1EC4-4B87-A7B9-3ABCBF03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E58C-C137-4B59-8412-8387A98F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B463-6AC3-41F2-99B9-AE4FF46F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9610-0925-4A95-908B-B67ADD0B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14D-3D25-441B-B3EA-1D192074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502F-8AA5-4B17-9775-4309A6CF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7ADA-774E-4024-9187-031FF39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3235-F915-4B77-9223-B0AD1E89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7328-F4D8-4F28-BAE7-936EB60D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04D9-C942-4100-9099-94755552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02F-9FBA-47B0-A92B-4B681316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C58-6564-49F9-96A4-6BAB957D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0D1-3305-44C3-8B8A-84301DA6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BE8-90B0-4A46-93C5-93AFD4B9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298-170E-4EF0-AAA6-EE9FB7C2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131-16D8-4FEB-9E29-B52B2C15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6A6-80E4-4350-96F5-AC3EB7F3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EE9C-D96F-49BF-BB55-2C0A52D1E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326E-7970-446C-AD0C-413EAE452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Mi viaje a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Mex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1828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ff99"/>
                </a:solidFill>
                <a:latin typeface="Tahoma"/>
              </a:rPr>
              <a:t>Ryan</a:t>
            </a: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99ff99"/>
                </a:solidFill>
                <a:latin typeface="Tahoma"/>
              </a:rPr>
              <a:t>Hemin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640080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El primer d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ida Madr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y llegue al hotel en Guadalajara, Chapalita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sident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Continental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uadalajar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muy grande y bonito.tiene muchas actividades y tiene una piscina grande. hace color y sol. Yo lleve comiseta y pantalones quartos.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o es necesario usar pantal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Cariñosos saludo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Script MT Bold"/>
              </a:rPr>
              <a:t>La Play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la Padr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 el segundo día yo llegue a la playa! El clima es muy bueno. Hace sol y mucho color. 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Yo fui a nadar en el océano y las olas pequeñas. Yo trajo una toalla y crema protectora a la playa. Fui a surfing en las olas grand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A rippled sandy Caribbean beach on Isla Mujeres, off the Yucatan Peninsula."/>
          <p:cNvPicPr/>
          <p:nvPr/>
        </p:nvPicPr>
        <p:blipFill>
          <a:blip r:embed="rId2"/>
          <a:stretch/>
        </p:blipFill>
        <p:spPr>
          <a:xfrm>
            <a:off x="4876920" y="3809880"/>
            <a:ext cx="3895560" cy="2597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4792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Cariñosos salud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Rockwell Condensed"/>
              </a:rPr>
              <a:t>Las Tienda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la, Max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y fui a las tiendas. Lleve quinientos 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res a las tiendas y yo comp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una memoria. En las tiendas hay muchas memorias, y pase un dia bueno en la tiendas. No hay comida y yo necesite comida porque fue homb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riñosos saludo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y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152960" cy="2765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cc33"/>
                </a:solidFill>
                <a:latin typeface="Script MT Bold"/>
              </a:rPr>
              <a:t>Los Delf</a:t>
            </a:r>
            <a:r>
              <a:rPr b="0" lang="en-US" sz="4400" spc="-1" strike="noStrike">
                <a:solidFill>
                  <a:srgbClr val="33cc33"/>
                </a:solidFill>
                <a:latin typeface="Script MT Bold"/>
                <a:ea typeface="Tahoma"/>
              </a:rPr>
              <a:t>í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rida, Morg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y yo voy a la piscina grande. En la piscina hay los del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ínes. Lo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ínes son muy hermoso. Yo nadé con ellos. Fue un fascinante dia y un vez en la vida opurtunidad. Pero yo espero yo fui otra vez. Lo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ínes comé pescado y no comé biftec. Yo nadé normalmente tambi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Happy Trio @ Dolphins Vallarta"/>
          <p:cNvPicPr/>
          <p:nvPr/>
        </p:nvPicPr>
        <p:blipFill>
          <a:blip r:embed="rId2"/>
          <a:stretch/>
        </p:blipFill>
        <p:spPr>
          <a:xfrm>
            <a:off x="4343400" y="3962520"/>
            <a:ext cx="4438800" cy="257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90720" y="4343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Cariñosos salud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Sylfaen"/>
              </a:rPr>
              <a:t>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Script MT Bold"/>
              </a:rPr>
              <a:t>El Restaurant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erida, Kirb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el final dia fui al restaurante muy bueno. Yo lleve un traje al restaurante. En la restaurante yo comp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é pollo y un pepsi. Por postre yo compré helado. No compré biftec o pescado. Me gusto pollo mejor. Pagué 500 pesos por mi com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Cariñosos saludo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stellar"/>
              </a:rPr>
              <a:t>Ry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Fancy Restaurant"/>
          <p:cNvPicPr/>
          <p:nvPr/>
        </p:nvPicPr>
        <p:blipFill>
          <a:blip r:embed="rId2"/>
          <a:stretch/>
        </p:blipFill>
        <p:spPr>
          <a:xfrm>
            <a:off x="4876920" y="35812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6:28:27Z</dcterms:created>
  <dc:creator>heminwayrya</dc:creator>
  <dc:description/>
  <dc:language>en-US</dc:language>
  <cp:lastModifiedBy>heminwayrya</cp:lastModifiedBy>
  <dcterms:modified xsi:type="dcterms:W3CDTF">2011-11-30T16:50:32Z</dcterms:modified>
  <cp:revision>14</cp:revision>
  <dc:subject/>
  <dc:title>Mi viaje a Mexico</dc:title>
</cp:coreProperties>
</file>